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0FA-5C46-4592-9D27-4F519178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0C2-E2D2-47B0-9C61-2B6DD793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DEF-B9B0-46DD-BD1C-DBF9CDDC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D32-6478-4692-BDEC-FEE11971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AF5-BCBE-4AE9-8924-B48839B8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D40-B8E4-4F0A-9971-9308B990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F51-95E7-4996-B78B-A77375AD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0DD-27E2-402A-A9FE-DFDC3B9F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8FA-78DC-44E4-8CB3-87177AF4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CC9B-8488-4C9C-91CA-7F912ACC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131-5BEC-4A23-A01D-9B3DF89E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70B-FECF-457D-B3DF-018DDA29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u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u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u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FCE4-D519-400A-A816-B84D86F89E01}" type="slidenum">
              <a:rPr b="0" lang="eu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635280" y="0"/>
            <a:ext cx="4025880" cy="3478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34974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6:55:01Z</dcterms:created>
  <dc:creator>ik015111zz</dc:creator>
  <dc:description/>
  <dc:language>en-US</dc:language>
  <cp:lastModifiedBy>ik015111zz</cp:lastModifiedBy>
  <dcterms:modified xsi:type="dcterms:W3CDTF">2012-05-18T06:55:14Z</dcterms:modified>
  <cp:revision>1</cp:revision>
  <dc:subject/>
  <dc:title>Diapositiva 1</dc:title>
</cp:coreProperties>
</file>